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4D0-543F-4C13-9489-2A93CCCC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88F-CE00-4ED0-ABF8-C050F9F2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55B-9323-4DB6-ADC9-54A719D1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6438-09FB-4D5C-B659-1F7531A7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3FF8-C457-432D-B087-1464013A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BEDF-B74F-4C6E-8211-47538E21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8998-9347-42FD-9CB0-BC217F5D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AEC2-83FB-44CD-BA88-AA525F31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268D-5A94-445A-83E1-579AD960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8C9E-ABE2-4374-8F73-9A50DCF6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8B35-6B8B-459D-BF48-011C9BB4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2A5-7D9B-4FC6-A471-EB1FEBB0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AE72-2A64-42D4-BECD-C625407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D53F-E804-464A-97B9-AD138E57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AD85-422B-439C-8DD8-59D5777B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FE11-7A47-4DCE-90EE-BC708E20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6D2E-7DFF-40D6-8351-BC075450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F0F7-B73A-48B0-A207-88555B3B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DD05-6331-4668-9D8F-9DB5080E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28A8-3497-4B90-B5BD-D3D2BC36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BAA8E-5964-4651-B6F6-BB64A45B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7D63-8F0F-44F0-A372-52564CA0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F86-4364-4382-A1C6-96523B4A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CAA9-4519-4589-AA58-BCBD4801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E352-148F-49AF-84FA-A246F94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76B2E-D215-41E9-BEC0-AF561E91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7723E-778A-4F6A-B2AC-E9C82372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8F32-0EDF-4F9B-B842-ABB2249B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6439-5E91-46F0-8748-260B171A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1AA0-8FC4-4429-90A6-EFA37857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92B-2739-4FDA-9EA3-122DF3BB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E0F-D6C4-403A-A5A8-5DF486DC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AD5-AB9C-4A5E-A55C-FBB98CA8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C7F-DCB4-4A68-B1AD-480D794D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218-146F-4CEB-B120-4DB51EDF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4DCE-032B-4036-A5BB-A5491A1D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909720"/>
            <a:ext cx="914400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9F17-A852-4220-A25B-8D21BFE331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909720"/>
            <a:ext cx="914400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6FE3-6A49-4FE7-973D-BD0312160E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909720"/>
            <a:ext cx="914400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D3B5-8476-4F80-844F-F051F80804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C:\Users\Administrator\Desktop\课件背景\2008115055357320.jpg"/>
          <p:cNvPicPr/>
          <p:nvPr/>
        </p:nvPicPr>
        <p:blipFill>
          <a:blip r:embed="rId1"/>
          <a:srcRect l="0" t="0" r="0" b="7238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WordArt 2"/>
          <p:cNvSpPr txBox="1"/>
          <p:nvPr/>
        </p:nvSpPr>
        <p:spPr>
          <a:xfrm>
            <a:off x="1006560" y="1197000"/>
            <a:ext cx="813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Vrinda"/>
              </a:rPr>
              <a:t>Unit 9  Numbe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Vrinda"/>
              <a:ea typeface="Vrinda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755640" y="28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 1 How many birds are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How  many  eg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  are 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rcRect l="13008" t="3789" r="14073" b="19152"/>
          <a:stretch/>
        </p:blipFill>
        <p:spPr>
          <a:xfrm>
            <a:off x="0" y="907920"/>
            <a:ext cx="9144000" cy="50403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8"/>
          <p:cNvSpPr/>
          <p:nvPr/>
        </p:nvSpPr>
        <p:spPr>
          <a:xfrm>
            <a:off x="6102360" y="4221000"/>
            <a:ext cx="846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29643"/>
              <a:gd name="adj5" fmla="val 219824"/>
              <a:gd name="adj6" fmla="val 151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8104320" y="4251240"/>
            <a:ext cx="644400" cy="473040"/>
          </a:xfrm>
          <a:prstGeom prst="borderCallout2">
            <a:avLst>
              <a:gd name="adj1" fmla="val 18750"/>
              <a:gd name="adj2" fmla="val -8333"/>
              <a:gd name="adj3" fmla="val 24162"/>
              <a:gd name="adj4" fmla="val -28324"/>
              <a:gd name="adj5" fmla="val 176175"/>
              <a:gd name="adj6" fmla="val -453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5580000" y="5259240"/>
            <a:ext cx="863640" cy="33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506" y="7477"/>
                </a:moveTo>
                <a:lnTo>
                  <a:pt x="39944" y="7477"/>
                </a:lnTo>
                <a:lnTo>
                  <a:pt x="39944" y="7477"/>
                </a:lnTo>
                <a:lnTo>
                  <a:pt x="37840" y="7477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1"/>
          <p:cNvSpPr/>
          <p:nvPr/>
        </p:nvSpPr>
        <p:spPr>
          <a:xfrm>
            <a:off x="6443640" y="5592600"/>
            <a:ext cx="1008000" cy="40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233" y="6147"/>
                </a:moveTo>
                <a:lnTo>
                  <a:pt x="27145" y="6147"/>
                </a:lnTo>
                <a:lnTo>
                  <a:pt x="27145" y="-854"/>
                </a:lnTo>
                <a:lnTo>
                  <a:pt x="26226" y="-79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8177040" y="5619600"/>
            <a:ext cx="78768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4314"/>
              <a:gd name="adj5" fmla="val -79444"/>
              <a:gd name="adj6" fmla="val -18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3"/>
          <p:cNvSpPr/>
          <p:nvPr/>
        </p:nvSpPr>
        <p:spPr>
          <a:xfrm>
            <a:off x="468360" y="5516640"/>
            <a:ext cx="460836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There  are  fi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200811613427346_2"/>
          <p:cNvPicPr/>
          <p:nvPr/>
        </p:nvPicPr>
        <p:blipFill>
          <a:blip r:embed="rId1"/>
          <a:srcRect l="0" t="0" r="0" b="4198"/>
          <a:stretch/>
        </p:blipFill>
        <p:spPr>
          <a:xfrm>
            <a:off x="1030320" y="907920"/>
            <a:ext cx="3144960" cy="46818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How  many  crocodile</a:t>
            </a: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 are 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200811613427346_2"/>
          <p:cNvPicPr/>
          <p:nvPr/>
        </p:nvPicPr>
        <p:blipFill>
          <a:blip r:embed="rId2"/>
          <a:stretch/>
        </p:blipFill>
        <p:spPr>
          <a:xfrm>
            <a:off x="6372360" y="3068640"/>
            <a:ext cx="1204920" cy="18716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179280" y="2781360"/>
            <a:ext cx="1079640" cy="792000"/>
          </a:xfrm>
          <a:prstGeom prst="wedgeEllipseCallout">
            <a:avLst>
              <a:gd name="adj1" fmla="val -8824"/>
              <a:gd name="adj2" fmla="val 86074"/>
            </a:avLst>
          </a:pr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7020000" y="2492280"/>
            <a:ext cx="1152360" cy="649440"/>
          </a:xfrm>
          <a:prstGeom prst="wedgeEllipseCallout">
            <a:avLst>
              <a:gd name="adj1" fmla="val -38703"/>
              <a:gd name="adj2" fmla="val 1011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4932360" y="1413000"/>
            <a:ext cx="2664000" cy="720720"/>
          </a:xfrm>
          <a:custGeom>
            <a:avLst/>
            <a:gdLst>
              <a:gd name="textAreaLeft" fmla="*/ 0 w 2664000"/>
              <a:gd name="textAreaRight" fmla="*/ 2664360 w 2664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There  are 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1187280" y="4724280"/>
            <a:ext cx="2880000" cy="21337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bi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5580000" y="4869000"/>
            <a:ext cx="2952720" cy="8650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How  many  fish  are  ther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d14dd8fada4ac49e9e51468d"/>
          <p:cNvPicPr/>
          <p:nvPr/>
        </p:nvPicPr>
        <p:blipFill>
          <a:blip r:embed="rId1"/>
          <a:stretch/>
        </p:blipFill>
        <p:spPr>
          <a:xfrm>
            <a:off x="1258920" y="907920"/>
            <a:ext cx="6408720" cy="5119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4"/>
          <p:cNvSpPr/>
          <p:nvPr/>
        </p:nvSpPr>
        <p:spPr>
          <a:xfrm>
            <a:off x="1619280" y="981000"/>
            <a:ext cx="1440000" cy="863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5724360" y="2349360"/>
            <a:ext cx="1224000" cy="719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3348000" y="3068640"/>
            <a:ext cx="1511280" cy="792000"/>
          </a:xfrm>
          <a:prstGeom prst="cloudCallout">
            <a:avLst>
              <a:gd name="adj1" fmla="val -38861"/>
              <a:gd name="adj2" fmla="val 68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2987640" y="4941720"/>
            <a:ext cx="1513080" cy="6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6877080" y="4221000"/>
            <a:ext cx="1511280" cy="792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539640" y="5805360"/>
            <a:ext cx="4464000" cy="8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ff"/>
                </a:solidFill>
                <a:latin typeface="Arial"/>
              </a:rPr>
              <a:t>There  are  fi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wor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rcRect l="13495" t="5373" r="14073" b="17902"/>
          <a:stretch/>
        </p:blipFill>
        <p:spPr>
          <a:xfrm>
            <a:off x="0" y="981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How  many  eggs  are 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rcRect l="14001" t="3440" r="14577" b="19363"/>
          <a:stretch/>
        </p:blipFill>
        <p:spPr>
          <a:xfrm>
            <a:off x="396720" y="968400"/>
            <a:ext cx="8136000" cy="494676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4"/>
          <p:cNvSpPr/>
          <p:nvPr/>
        </p:nvSpPr>
        <p:spPr>
          <a:xfrm>
            <a:off x="6588000" y="1989000"/>
            <a:ext cx="2305080" cy="1511280"/>
          </a:xfrm>
          <a:prstGeom prst="cloudCallout">
            <a:avLst>
              <a:gd name="adj1" fmla="val -44699"/>
              <a:gd name="adj2" fmla="val 110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How  many  eggs  are 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rcRect l="13307" t="5275" r="13677" b="20387"/>
          <a:stretch/>
        </p:blipFill>
        <p:spPr>
          <a:xfrm>
            <a:off x="0" y="907920"/>
            <a:ext cx="8640720" cy="50403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4"/>
          <p:cNvSpPr/>
          <p:nvPr/>
        </p:nvSpPr>
        <p:spPr>
          <a:xfrm>
            <a:off x="4427640" y="5734080"/>
            <a:ext cx="3240000" cy="574560"/>
          </a:xfrm>
          <a:prstGeom prst="wedgeRoundRectCallout">
            <a:avLst>
              <a:gd name="adj1" fmla="val -46129"/>
              <a:gd name="adj2" fmla="val 698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e out of the 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6804000" y="1341360"/>
            <a:ext cx="2340000" cy="1366920"/>
          </a:xfrm>
          <a:prstGeom prst="cloudCallout">
            <a:avLst>
              <a:gd name="adj1" fmla="val -43759"/>
              <a:gd name="adj2" fmla="val 114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C:\Users\Administrator\Desktop\课件背景\c1a1b377e4026829189f7ba58bb23275.jpg"/>
          <p:cNvPicPr/>
          <p:nvPr/>
        </p:nvPicPr>
        <p:blipFill>
          <a:blip r:embed="rId1"/>
          <a:srcRect l="0" t="5080" r="0" b="107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an you read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4920" y="1412640"/>
            <a:ext cx="934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d:\program files\360se6\User Data\temp\8643292_162812969000_2.jpg"/>
          <p:cNvPicPr/>
          <p:nvPr/>
        </p:nvPicPr>
        <p:blipFill>
          <a:blip r:embed="rId2"/>
          <a:srcRect l="0" t="0" r="0" b="49903"/>
          <a:stretch/>
        </p:blipFill>
        <p:spPr>
          <a:xfrm>
            <a:off x="0" y="2276640"/>
            <a:ext cx="9144000" cy="2160360"/>
          </a:xfrm>
          <a:prstGeom prst="rect">
            <a:avLst/>
          </a:prstGeom>
          <a:ln w="0">
            <a:noFill/>
          </a:ln>
        </p:spPr>
      </p:pic>
      <p:sp>
        <p:nvSpPr>
          <p:cNvPr id="243" name="内容占位符 2"/>
          <p:cNvSpPr/>
          <p:nvPr/>
        </p:nvSpPr>
        <p:spPr>
          <a:xfrm>
            <a:off x="1763640" y="4292640"/>
            <a:ext cx="935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内容占位符 2"/>
          <p:cNvSpPr/>
          <p:nvPr/>
        </p:nvSpPr>
        <p:spPr>
          <a:xfrm>
            <a:off x="3708360" y="1484280"/>
            <a:ext cx="129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内容占位符 2"/>
          <p:cNvSpPr/>
          <p:nvPr/>
        </p:nvSpPr>
        <p:spPr>
          <a:xfrm>
            <a:off x="5796000" y="443700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内容占位符 2"/>
          <p:cNvSpPr/>
          <p:nvPr/>
        </p:nvSpPr>
        <p:spPr>
          <a:xfrm>
            <a:off x="7812000" y="4437000"/>
            <a:ext cx="935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C:\Users\Administrator\Desktop\课件背景\c1a1b377e4026829189f7ba58bb23275.jpg"/>
          <p:cNvPicPr/>
          <p:nvPr/>
        </p:nvPicPr>
        <p:blipFill>
          <a:blip r:embed="rId1"/>
          <a:srcRect l="0" t="5080" r="0" b="107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3059280" y="1268280"/>
            <a:ext cx="30351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Homework</a:t>
            </a:r>
            <a:r>
              <a:rPr b="0" lang="zh-CN" sz="4400" spc="-1" strike="noStrike">
                <a:solidFill>
                  <a:srgbClr val="ff33cc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47640" y="2421000"/>
            <a:ext cx="66247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  <a:ea typeface="黑体"/>
              </a:rPr>
              <a:t>Read  the  story  at  least  three  times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  <a:ea typeface="黑体"/>
              </a:rPr>
              <a:t>至少读三遍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d:\program files\360se6\User Data\temp\42bOOOPICa7_1024.jpg"/>
          <p:cNvPicPr/>
          <p:nvPr/>
        </p:nvPicPr>
        <p:blipFill>
          <a:blip r:embed="rId1"/>
          <a:srcRect l="0" t="1907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58920" y="2852280"/>
            <a:ext cx="6480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See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915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What’s  thi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2007712154147597_2"/>
          <p:cNvPicPr/>
          <p:nvPr/>
        </p:nvPicPr>
        <p:blipFill>
          <a:blip r:embed="rId1"/>
          <a:stretch/>
        </p:blipFill>
        <p:spPr>
          <a:xfrm>
            <a:off x="6084720" y="1844640"/>
            <a:ext cx="2414880" cy="33130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447173_151025012237_2"/>
          <p:cNvPicPr/>
          <p:nvPr/>
        </p:nvPicPr>
        <p:blipFill>
          <a:blip r:embed="rId2"/>
          <a:srcRect l="0" t="0" r="0" b="5378"/>
          <a:stretch/>
        </p:blipFill>
        <p:spPr>
          <a:xfrm>
            <a:off x="192240" y="2060640"/>
            <a:ext cx="2514600" cy="2520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5082999_115135021778_2"/>
          <p:cNvPicPr/>
          <p:nvPr/>
        </p:nvPicPr>
        <p:blipFill>
          <a:blip r:embed="rId3"/>
          <a:srcRect l="0" t="0" r="0" b="5123"/>
          <a:stretch/>
        </p:blipFill>
        <p:spPr>
          <a:xfrm>
            <a:off x="2843280" y="2276640"/>
            <a:ext cx="3263760" cy="3097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6"/>
          <p:cNvSpPr/>
          <p:nvPr/>
        </p:nvSpPr>
        <p:spPr>
          <a:xfrm>
            <a:off x="395280" y="4869000"/>
            <a:ext cx="23749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It’s a du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7"/>
          <p:cNvSpPr/>
          <p:nvPr/>
        </p:nvSpPr>
        <p:spPr>
          <a:xfrm>
            <a:off x="2987640" y="5229360"/>
            <a:ext cx="27367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t’s a mush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6012000" y="5157720"/>
            <a:ext cx="295272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’s a strawb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75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"/>
              </a:rPr>
              <a:t>What  are  the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447173_151025012237_2"/>
          <p:cNvPicPr/>
          <p:nvPr/>
        </p:nvPicPr>
        <p:blipFill>
          <a:blip r:embed="rId1"/>
          <a:srcRect l="0" t="0" r="0" b="6087"/>
          <a:stretch/>
        </p:blipFill>
        <p:spPr>
          <a:xfrm>
            <a:off x="250920" y="1197000"/>
            <a:ext cx="2244600" cy="223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447173_151025012237_2"/>
          <p:cNvPicPr/>
          <p:nvPr/>
        </p:nvPicPr>
        <p:blipFill>
          <a:blip r:embed="rId2"/>
          <a:srcRect l="0" t="0" r="0" b="5853"/>
          <a:stretch/>
        </p:blipFill>
        <p:spPr>
          <a:xfrm>
            <a:off x="250920" y="3500280"/>
            <a:ext cx="2311200" cy="2305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5082999_115135021778_2"/>
          <p:cNvPicPr/>
          <p:nvPr/>
        </p:nvPicPr>
        <p:blipFill>
          <a:blip r:embed="rId3"/>
          <a:srcRect l="0" t="0" r="0" b="4227"/>
          <a:stretch/>
        </p:blipFill>
        <p:spPr>
          <a:xfrm>
            <a:off x="2771640" y="1773360"/>
            <a:ext cx="1729080" cy="165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5082999_115135021778_2"/>
          <p:cNvPicPr/>
          <p:nvPr/>
        </p:nvPicPr>
        <p:blipFill>
          <a:blip r:embed="rId4"/>
          <a:srcRect l="0" t="0" r="0" b="4309"/>
          <a:stretch/>
        </p:blipFill>
        <p:spPr>
          <a:xfrm>
            <a:off x="4427640" y="1844640"/>
            <a:ext cx="1655640" cy="158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2007712154147597_2"/>
          <p:cNvPicPr/>
          <p:nvPr/>
        </p:nvPicPr>
        <p:blipFill>
          <a:blip r:embed="rId5"/>
          <a:stretch/>
        </p:blipFill>
        <p:spPr>
          <a:xfrm>
            <a:off x="6227640" y="1341360"/>
            <a:ext cx="1206720" cy="165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2007712154147597_2"/>
          <p:cNvPicPr/>
          <p:nvPr/>
        </p:nvPicPr>
        <p:blipFill>
          <a:blip r:embed="rId6"/>
          <a:stretch/>
        </p:blipFill>
        <p:spPr>
          <a:xfrm>
            <a:off x="6227640" y="3573360"/>
            <a:ext cx="1416240" cy="1943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0"/>
          <p:cNvSpPr/>
          <p:nvPr/>
        </p:nvSpPr>
        <p:spPr>
          <a:xfrm>
            <a:off x="0" y="6021360"/>
            <a:ext cx="2700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y are du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"/>
          <p:cNvSpPr/>
          <p:nvPr/>
        </p:nvSpPr>
        <p:spPr>
          <a:xfrm>
            <a:off x="2987640" y="5877000"/>
            <a:ext cx="3024360" cy="981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 are mush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084720" y="5950080"/>
            <a:ext cx="2808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 are strawbe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5082999_115135021778_2"/>
          <p:cNvPicPr/>
          <p:nvPr/>
        </p:nvPicPr>
        <p:blipFill>
          <a:blip r:embed="rId7"/>
          <a:srcRect l="0" t="0" r="0" b="8328"/>
          <a:stretch/>
        </p:blipFill>
        <p:spPr>
          <a:xfrm>
            <a:off x="2771640" y="3716280"/>
            <a:ext cx="1729080" cy="158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5082999_115135021778_2"/>
          <p:cNvPicPr/>
          <p:nvPr/>
        </p:nvPicPr>
        <p:blipFill>
          <a:blip r:embed="rId8"/>
          <a:srcRect l="0" t="0" r="0" b="8328"/>
          <a:stretch/>
        </p:blipFill>
        <p:spPr>
          <a:xfrm>
            <a:off x="4427640" y="3716280"/>
            <a:ext cx="172872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2007712154147597_2"/>
          <p:cNvPicPr/>
          <p:nvPr/>
        </p:nvPicPr>
        <p:blipFill>
          <a:blip r:embed="rId9"/>
          <a:stretch/>
        </p:blipFill>
        <p:spPr>
          <a:xfrm>
            <a:off x="7667640" y="2565360"/>
            <a:ext cx="1206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16134011"/>
          <p:cNvPicPr/>
          <p:nvPr/>
        </p:nvPicPr>
        <p:blipFill>
          <a:blip r:embed="rId1"/>
          <a:srcRect l="0" t="0" r="0" b="9868"/>
          <a:stretch/>
        </p:blipFill>
        <p:spPr>
          <a:xfrm>
            <a:off x="252360" y="957240"/>
            <a:ext cx="8352000" cy="5302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468360" y="260280"/>
            <a:ext cx="7704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many dog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>
            <a:off x="755640" y="5229360"/>
            <a:ext cx="1152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6"/>
          <p:cNvSpPr/>
          <p:nvPr/>
        </p:nvSpPr>
        <p:spPr>
          <a:xfrm>
            <a:off x="2627280" y="6021360"/>
            <a:ext cx="1081080" cy="836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4788000" y="6237360"/>
            <a:ext cx="1224000" cy="62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6948360" y="5300640"/>
            <a:ext cx="1224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2556000" y="1557360"/>
            <a:ext cx="360036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re are fo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915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How many rabbit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 are the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a06d81f1eb63e6827931aadf"/>
          <p:cNvPicPr/>
          <p:nvPr/>
        </p:nvPicPr>
        <p:blipFill>
          <a:blip r:embed="rId1"/>
          <a:stretch/>
        </p:blipFill>
        <p:spPr>
          <a:xfrm>
            <a:off x="611280" y="1197000"/>
            <a:ext cx="7704000" cy="5481720"/>
          </a:xfrm>
          <a:prstGeom prst="rect">
            <a:avLst/>
          </a:prstGeom>
          <a:ln w="0">
            <a:noFill/>
          </a:ln>
        </p:spPr>
      </p:pic>
      <p:sp>
        <p:nvSpPr>
          <p:cNvPr id="162" name="Oval 4"/>
          <p:cNvSpPr/>
          <p:nvPr/>
        </p:nvSpPr>
        <p:spPr>
          <a:xfrm>
            <a:off x="2627280" y="4797360"/>
            <a:ext cx="136692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5003640" y="4869000"/>
            <a:ext cx="1297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771640" y="1628640"/>
            <a:ext cx="352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here are tw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How many bird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 are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rcRect l="0" t="8602" r="0" b="12992"/>
          <a:stretch/>
        </p:blipFill>
        <p:spPr>
          <a:xfrm>
            <a:off x="0" y="1052640"/>
            <a:ext cx="8388360" cy="4933800"/>
          </a:xfrm>
          <a:prstGeom prst="rect">
            <a:avLst/>
          </a:prstGeom>
          <a:ln w="0">
            <a:noFill/>
          </a:ln>
        </p:spPr>
      </p:pic>
      <p:sp>
        <p:nvSpPr>
          <p:cNvPr id="167" name="Oval 4"/>
          <p:cNvSpPr/>
          <p:nvPr/>
        </p:nvSpPr>
        <p:spPr>
          <a:xfrm>
            <a:off x="2484360" y="2421000"/>
            <a:ext cx="86364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4140360" y="3573360"/>
            <a:ext cx="79200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6012000" y="2492280"/>
            <a:ext cx="93636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195640" y="6021360"/>
            <a:ext cx="4537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here  are  thr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200661261770000"/>
          <p:cNvPicPr/>
          <p:nvPr/>
        </p:nvPicPr>
        <p:blipFill>
          <a:blip r:embed="rId1"/>
          <a:stretch/>
        </p:blipFill>
        <p:spPr>
          <a:xfrm>
            <a:off x="2700360" y="98100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200661261770000"/>
          <p:cNvPicPr/>
          <p:nvPr/>
        </p:nvPicPr>
        <p:blipFill>
          <a:blip r:embed="rId2"/>
          <a:stretch/>
        </p:blipFill>
        <p:spPr>
          <a:xfrm>
            <a:off x="4572000" y="981000"/>
            <a:ext cx="1246320" cy="1871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200661261770000"/>
          <p:cNvPicPr/>
          <p:nvPr/>
        </p:nvPicPr>
        <p:blipFill>
          <a:blip r:embed="rId3"/>
          <a:stretch/>
        </p:blipFill>
        <p:spPr>
          <a:xfrm>
            <a:off x="2700360" y="3502080"/>
            <a:ext cx="1457280" cy="21859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ow  many monkey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200661261770000"/>
          <p:cNvPicPr/>
          <p:nvPr/>
        </p:nvPicPr>
        <p:blipFill>
          <a:blip r:embed="rId4"/>
          <a:stretch/>
        </p:blipFill>
        <p:spPr>
          <a:xfrm>
            <a:off x="7093080" y="3429000"/>
            <a:ext cx="1457280" cy="2185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200661261770000"/>
          <p:cNvPicPr/>
          <p:nvPr/>
        </p:nvPicPr>
        <p:blipFill>
          <a:blip r:embed="rId5"/>
          <a:stretch/>
        </p:blipFill>
        <p:spPr>
          <a:xfrm>
            <a:off x="468360" y="3573360"/>
            <a:ext cx="1439640" cy="216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200661261770000"/>
          <p:cNvPicPr/>
          <p:nvPr/>
        </p:nvPicPr>
        <p:blipFill>
          <a:blip r:embed="rId6"/>
          <a:stretch/>
        </p:blipFill>
        <p:spPr>
          <a:xfrm>
            <a:off x="4861080" y="3429000"/>
            <a:ext cx="1439640" cy="2160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200661261770000"/>
          <p:cNvPicPr/>
          <p:nvPr/>
        </p:nvPicPr>
        <p:blipFill>
          <a:blip r:embed="rId7"/>
          <a:stretch/>
        </p:blipFill>
        <p:spPr>
          <a:xfrm>
            <a:off x="684360" y="981000"/>
            <a:ext cx="1247760" cy="1871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755640" y="2924280"/>
            <a:ext cx="1152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2843280" y="292428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4716360" y="2852640"/>
            <a:ext cx="10796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539640" y="5805360"/>
            <a:ext cx="1224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2916360" y="5805360"/>
            <a:ext cx="1079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5076720" y="5805360"/>
            <a:ext cx="1150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7308720" y="5734080"/>
            <a:ext cx="10796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ff"/>
                </a:solidFill>
                <a:latin typeface="Arial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6156360" y="1052640"/>
            <a:ext cx="259236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here  are  s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How many flower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rcRect l="13495" t="3804" r="27236" b="11534"/>
          <a:stretch/>
        </p:blipFill>
        <p:spPr>
          <a:xfrm>
            <a:off x="0" y="836640"/>
            <a:ext cx="8928000" cy="53798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/>
          <p:cNvSpPr/>
          <p:nvPr/>
        </p:nvSpPr>
        <p:spPr>
          <a:xfrm>
            <a:off x="4211640" y="3500280"/>
            <a:ext cx="647640" cy="360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924360" y="4149720"/>
            <a:ext cx="718920" cy="358920"/>
          </a:xfrm>
          <a:prstGeom prst="wedgeRoundRectCallout">
            <a:avLst>
              <a:gd name="adj1" fmla="val -25055"/>
              <a:gd name="adj2" fmla="val 69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5076720" y="3933720"/>
            <a:ext cx="863640" cy="358920"/>
          </a:xfrm>
          <a:prstGeom prst="wedgeRoundRectCallout">
            <a:avLst>
              <a:gd name="adj1" fmla="val -44300"/>
              <a:gd name="adj2" fmla="val 69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3635280" y="5013360"/>
            <a:ext cx="792360" cy="360360"/>
          </a:xfrm>
          <a:prstGeom prst="wedgeRoundRectCallout">
            <a:avLst>
              <a:gd name="adj1" fmla="val -26550"/>
              <a:gd name="adj2" fmla="val 698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4643280" y="4581360"/>
            <a:ext cx="649440" cy="287640"/>
          </a:xfrm>
          <a:prstGeom prst="wedgeRoundRectCallout">
            <a:avLst>
              <a:gd name="adj1" fmla="val -42421"/>
              <a:gd name="adj2" fmla="val 100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2"/>
          <p:cNvSpPr/>
          <p:nvPr/>
        </p:nvSpPr>
        <p:spPr>
          <a:xfrm>
            <a:off x="5724360" y="4437000"/>
            <a:ext cx="576360" cy="360360"/>
          </a:xfrm>
          <a:prstGeom prst="wedgeRoundRectCallout">
            <a:avLst>
              <a:gd name="adj1" fmla="val -41458"/>
              <a:gd name="adj2" fmla="val 698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3"/>
          <p:cNvSpPr/>
          <p:nvPr/>
        </p:nvSpPr>
        <p:spPr>
          <a:xfrm>
            <a:off x="3851280" y="5661000"/>
            <a:ext cx="936720" cy="216000"/>
          </a:xfrm>
          <a:prstGeom prst="wedgeRoundRectCallout">
            <a:avLst>
              <a:gd name="adj1" fmla="val -13898"/>
              <a:gd name="adj2" fmla="val 110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4"/>
          <p:cNvSpPr/>
          <p:nvPr/>
        </p:nvSpPr>
        <p:spPr>
          <a:xfrm>
            <a:off x="4500720" y="5157720"/>
            <a:ext cx="792000" cy="358920"/>
          </a:xfrm>
          <a:prstGeom prst="wedgeRoundRectCallout">
            <a:avLst>
              <a:gd name="adj1" fmla="val 9120"/>
              <a:gd name="adj2" fmla="val 69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5580000" y="5445000"/>
            <a:ext cx="720720" cy="360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6"/>
          <p:cNvSpPr/>
          <p:nvPr/>
        </p:nvSpPr>
        <p:spPr>
          <a:xfrm>
            <a:off x="6372360" y="4869000"/>
            <a:ext cx="792000" cy="360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250920" y="3645000"/>
            <a:ext cx="3168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There  are  t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How  many  duck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  are 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072"/>
          <p:cNvPicPr/>
          <p:nvPr/>
        </p:nvPicPr>
        <p:blipFill>
          <a:blip r:embed="rId1"/>
          <a:srcRect l="0" t="0" r="0" b="3571"/>
          <a:stretch/>
        </p:blipFill>
        <p:spPr>
          <a:xfrm>
            <a:off x="0" y="907920"/>
            <a:ext cx="9144000" cy="511344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1332000" y="2924280"/>
            <a:ext cx="1295280" cy="1368360"/>
          </a:xfrm>
          <a:prstGeom prst="cloudCallout">
            <a:avLst>
              <a:gd name="adj1" fmla="val -33333"/>
              <a:gd name="adj2" fmla="val 69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4788000" y="3141720"/>
            <a:ext cx="1008000" cy="1079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7093080" y="2637000"/>
            <a:ext cx="1655640" cy="1008000"/>
          </a:xfrm>
          <a:prstGeom prst="cloudCallout">
            <a:avLst>
              <a:gd name="adj1" fmla="val -45685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2484360" y="5516640"/>
            <a:ext cx="4033800" cy="865080"/>
          </a:xfrm>
          <a:custGeom>
            <a:avLst/>
            <a:gdLst>
              <a:gd name="textAreaLeft" fmla="*/ 0 w 4033800"/>
              <a:gd name="textAreaRight" fmla="*/ 4034160 w 4033800"/>
              <a:gd name="textAreaTop" fmla="*/ 111960 h 865080"/>
              <a:gd name="textAreaBottom" fmla="*/ 753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 are  th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5T11:01:23Z</dcterms:created>
  <dc:creator/>
  <dc:description/>
  <cp:keywords/>
  <dc:language>en-US</dc:language>
  <cp:lastModifiedBy/>
  <cp:lastPrinted>1899-12-30T00:00:00Z</cp:lastPrinted>
  <dcterms:modified xsi:type="dcterms:W3CDTF">2015-05-05T07:56:50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